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whoosh.wav" ContentType="audio/x-wav"/>
  <Override PartName="/ppt/media/laser.wav" ContentType="audio/x-wav"/>
  <Override PartName="/ppt/media/image4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click.wav" ContentType="audio/x-wav"/>
  <Override PartName="/ppt/media/image14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1C01-37B5-405A-9CE3-28B2A3DD4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5635-E86D-4179-BFA0-C38B00FE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3B39-B411-4249-9CB9-D419450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A19E-DF37-4737-B725-3150C8527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56B64-A08B-4120-A6DF-3E434C721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8AFE-06E8-4C1E-9BB1-6DF73641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3D18B-88D8-4C6A-A182-CF047CE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D210-D9C7-4BDF-AC6C-5115856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DD2A-3B25-4FB7-861F-7D329F78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CF94-6F24-458A-911D-258887DE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DEEAF-3587-48D8-9BB0-C4087F7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377A-559C-4085-93D8-DE0BEE6D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43BF-37D0-4AC5-84B7-433CD229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4DC39-AE0B-4A92-B63E-736F029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2F433-4CEA-4B45-8B98-ACDDFAF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05BD-4E15-475F-9A8C-77CD65A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7333-F591-46F5-80D1-F80BE14A3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3FF-7A61-4FDA-BF46-628AE96AB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4E3D-0519-487D-9B3F-B24B191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C52-8C43-4AB3-AE13-C533A1C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63B3-6E96-40FF-A6E1-8BC11E5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415-495F-4B65-AA60-1819447C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5DB6-F212-49E3-B990-F87AE68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73F-5857-4801-BAF1-BFC02406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0A64-E267-4346-B6F7-8E6F8551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D56-74B0-4443-88E3-E50AC10D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ED81-599C-4C2C-856C-B5C7A8AF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2A6-7265-419F-BA7E-464C944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E20-539A-47DF-BE6A-0BEDA39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5853-ECF6-4C42-9459-07306579C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1C5C3-A094-43AC-8875-7164A1EE3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83A8A-B88C-49BC-A362-435E844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78A97-4B01-4DFD-B4EC-53BB101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7A4D-BF2B-4400-AAFF-1617EBE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FC6FB-9761-4EC7-8671-809C336B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0A99C-DA89-4C84-BC9A-1A8B4CB2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84917-F04F-4350-9651-6E4734B4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FBA69-F25B-4690-82DB-E2EE2E0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75D31-13D6-4D5D-91AB-94250AF2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81CD5-FC69-46F7-B4C2-6E0389A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DF137-A6B5-4EC0-99C3-29362C6D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D7B9C-2C00-4F62-8A37-D5C8BD87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6AA3A-107A-432E-8DCC-25D8300DF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052AD-0CCF-4E13-9384-D21E7618D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8B13-64DD-4CC7-A2C6-EF264DD1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1A5AA-9448-4787-BE21-0DC9395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D9015-4AE1-41A7-924B-8AFB308B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3CCEE-8287-4583-99E4-CF4DD19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B3D45-12E6-4C3E-973C-C94E7861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2734A-06FD-49B5-96A9-3277F67F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5932C-6D25-4C7E-8761-D631D96E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77BCE-803A-4F78-AC3E-8465E62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680EE-1EBE-4218-9778-062A92F7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18930-E431-4DA1-9733-823F2D20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1ECC8-7EDF-4987-B1F0-22E781A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80E0-1D61-4E8A-A4FE-F9AA397A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EB22E-5BA3-4388-9B19-D4FAA2DB75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F869-D240-4677-A530-14693C6E3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84B9-F950-4744-BC05-ACBDCD3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B47E-5333-4E98-8D19-0A203F7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2C68-3933-47E9-8F3B-CAE11E9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C4F4-EBDD-487C-A736-72C3EFC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568F-F1B4-44C7-9EAF-74D3AF88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00C8-8684-48B5-B8FB-F1F1A47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123F-A2B9-41FF-B4B2-524BE3B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0415-660D-4ABA-BE8B-2DB6F61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D298-FE5E-44E3-8A78-1265FEE9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606F-A873-4495-8686-D6DF99F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CEDD-C174-4A52-B06C-6AA13BC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EC1D-BD91-42F3-84F2-2527177DC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766D0-D1D9-4568-B6FE-C68DFC38A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872BE-D8BC-4F71-A22E-2ED2B9F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5F90A-1940-4E91-A31A-33C107A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98C18-2B6D-4208-BF8B-CDAAC6E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F22E3-1CB4-48A8-AF72-F3DEB3DC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E18F7-AE73-4C63-9107-335C4180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0A87E-6D85-4C71-B238-64BDCC9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1F9C-596B-4A9C-B5DA-6FEDC455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76F5E-4B76-4593-B0DC-5D991D9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5682F-68A7-4017-A7F1-D7E2D5E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97A1C-4108-4541-A067-17906E0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FCA4E-EDA5-4CB0-AE30-68F97AE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028AA-F438-444B-9F91-950468B5B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4B06-79F1-4248-9555-5D3E644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4A3F8-869A-4B63-8A91-E544F9D6939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784F7-0B8D-4500-B806-8A3285027763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FAF1D-59B9-40DD-8717-A4598378D6A8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C7AC8-0B04-4EFB-8FA2-7F935E5E9600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6DB36-67D5-4E38-B597-CC1D17A9EBD8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38BC6-936B-40E1-A52D-D09A61479245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EA44D-AAAD-4112-81B0-AAEB6D641222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304920"/>
            <a:ext cx="740736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suasion Is All Around You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048120"/>
            <a:ext cx="7407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Can You Hear Me Now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97180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ert opin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s approve this product, so you should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 out of five dentists recommend sugarless gum for their patients who chew gu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289584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ick review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ndw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mon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otional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dience Awarenes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vertisers know how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rget their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ppropriate persuasiv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o’s the audienc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4422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lick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5179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95840" cy="44132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743200"/>
            <a:ext cx="1905120" cy="1066680"/>
          </a:xfrm>
          <a:prstGeom prst="wedgeRoundRectCallout">
            <a:avLst>
              <a:gd name="adj1" fmla="val 60328"/>
              <a:gd name="adj2" fmla="val 119537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0" y="3886200"/>
            <a:ext cx="1905120" cy="1143000"/>
          </a:xfrm>
          <a:prstGeom prst="wedgeRoundRectCallout">
            <a:avLst>
              <a:gd name="adj1" fmla="val -101995"/>
              <a:gd name="adj2" fmla="val -731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306600" y="1447920"/>
            <a:ext cx="3756240" cy="4800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010280" y="38088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990720"/>
            <a:ext cx="1905120" cy="1143000"/>
          </a:xfrm>
          <a:prstGeom prst="wedgeRoundRectCallout">
            <a:avLst>
              <a:gd name="adj1" fmla="val 47240"/>
              <a:gd name="adj2" fmla="val 129407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124080"/>
            <a:ext cx="1905120" cy="1143000"/>
          </a:xfrm>
          <a:prstGeom prst="wedgeRoundRectCallout">
            <a:avLst>
              <a:gd name="adj1" fmla="val -96759"/>
              <a:gd name="adj2" fmla="val -43680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843360" cy="36576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3429000" cy="4448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172200" y="9144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3733920"/>
            <a:ext cx="1904760" cy="1143000"/>
          </a:xfrm>
          <a:prstGeom prst="wedgeRoundRectCallout">
            <a:avLst>
              <a:gd name="adj1" fmla="val -78435"/>
              <a:gd name="adj2" fmla="val 3631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3200400" cy="448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858000" y="11430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1828800"/>
            <a:ext cx="1904760" cy="1143000"/>
          </a:xfrm>
          <a:prstGeom prst="wedgeRoundRectCallout">
            <a:avLst>
              <a:gd name="adj1" fmla="val 43750"/>
              <a:gd name="adj2" fmla="val 168680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persuas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means of convincing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buy a certain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believe something or act in a certain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agree with a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2971800" cy="27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705720" y="1219320"/>
            <a:ext cx="190476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4343400"/>
            <a:ext cx="1904760" cy="1143000"/>
          </a:xfrm>
          <a:prstGeom prst="wedgeRoundRectCallout">
            <a:avLst>
              <a:gd name="adj1" fmla="val -93268"/>
              <a:gd name="adj2" fmla="val 15953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2743200"/>
            <a:ext cx="1904760" cy="1143000"/>
          </a:xfrm>
          <a:prstGeom prst="wedgeRoundRectCallout">
            <a:avLst>
              <a:gd name="adj1" fmla="val 44620"/>
              <a:gd name="adj2" fmla="val 114861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276720" y="1660680"/>
            <a:ext cx="3657600" cy="4770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1680" y="3657600"/>
            <a:ext cx="1905120" cy="1447920"/>
          </a:xfrm>
          <a:prstGeom prst="wedgeRoundRectCallout">
            <a:avLst>
              <a:gd name="adj1" fmla="val -88032"/>
              <a:gd name="adj2" fmla="val -25138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levant fac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vertisers spend about $200 billion a year on TV adverti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verage cost for Super Bowl ads is $2.6 million per 30 second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verage American watches about 24,000 TV commercials a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television-commercial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king Connec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your favorite jing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slogan for a product do you find yourself sa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TV commercial has influenced you to make a purc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ce RGIII shops at HEB, does that mean we should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uasion is all around yo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addition to TV commercials, where else do you see persuasion all around you?  Is that persuasion influencing you or your family in any way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persuasive techniques often used in advertis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ndw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mon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otional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1828800"/>
            <a:ext cx="2819160" cy="2514600"/>
          </a:xfrm>
          <a:prstGeom prst="wedgeRoundRectCallout">
            <a:avLst>
              <a:gd name="adj1" fmla="val -91435"/>
              <a:gd name="adj2" fmla="val -885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logan: “Can you hear me now?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atchy phrase or statement often used to sell a service or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3389400" cy="2797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304920"/>
            <a:ext cx="74995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petition: </a:t>
            </a:r>
            <a:br>
              <a:rPr sz="3900"/>
            </a:b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he name of a product is repeated many times</a:t>
            </a:r>
            <a:br>
              <a:rPr sz="39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3047760" cy="3124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828800" y="2286000"/>
            <a:ext cx="2057400" cy="99072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2895480"/>
            <a:ext cx="2057400" cy="106704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1680" y="3581280"/>
            <a:ext cx="2057400" cy="106704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ndwag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statement suggesting that everyone is using a specific product, so you should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971800" y="2895480"/>
            <a:ext cx="5154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d Her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96560" y="1447560"/>
            <a:ext cx="783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sents an irrelevant topic to divert attention away from the original issu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ther: It’s bedtime Ja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: Mom, how do ants feed their bab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ther: Don’t know dear. Close your eyes now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: But mama, do ant babies cry when hungr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Jane uses it to keep from having to slee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stimon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well-known person supports a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058840" y="2819520"/>
            <a:ext cx="5218200" cy="31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whoosh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al Appe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34960" y="1295280"/>
            <a:ext cx="7499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erson is made to have strong feelings about a situation o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27910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wind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8:02Z</dcterms:created>
  <dc:creator>jbernhard</dc:creator>
  <dc:description/>
  <dc:language>en-US</dc:language>
  <cp:lastModifiedBy>jbernhard</cp:lastModifiedBy>
  <dcterms:modified xsi:type="dcterms:W3CDTF">2008-01-18T17:36:00Z</dcterms:modified>
  <cp:revision>20</cp:revision>
  <dc:subject/>
  <dc:title>Common Persuasive Techniques</dc:title>
</cp:coreProperties>
</file>